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98BC-FED0-4940-99B9-FE57C3D2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3F51-D9AA-4A19-B949-544BBEFC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EE70-C563-49A1-BA67-8C027700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3499-2E6D-42A0-8D6E-3BC91125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7D70-9861-4151-8950-344FB963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E8DA-C525-4DD6-8406-DB71E827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267D-A192-4638-8638-FBD23016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5C9A-FCF9-47CA-AFBF-04F6C32E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CAEC-495E-4901-AFFD-93194D1D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26AE-C098-423A-B22C-69CD834D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13EA-10D0-4342-B322-8EC44ECD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3DF7-EB28-40D9-BE54-77C506C6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D804-076B-436C-83C7-67439CF1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6D6D-315B-4ECA-A373-B1D3BE19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6A2D-044E-47F7-B6F8-734A0D8C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8046-A776-4B27-97F5-DA40A501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97D6-681F-4F8E-B2FB-317880A9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03F0-0875-4461-8190-3118DBA3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1F14-3DD9-43F5-894C-522C8853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067F-6658-4336-A0C5-239D129E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F23F-3E31-41C0-98FB-17781BD8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3A1E-4678-49B8-9D43-E4C84AD3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B4A9-5B40-48FB-928E-B6B9DD39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90B9-FC18-4C47-8A49-A666702B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85400" cy="6173640"/>
            <a:chOff x="0" y="0"/>
            <a:chExt cx="918540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643800" cy="6173640"/>
            </a:xfrm>
            <a:custGeom>
              <a:avLst/>
              <a:gdLst/>
              <a:ahLst/>
              <a:rect l="l" t="t" r="r" b="b"/>
              <a:pathLst>
                <a:path w="4185" h="3889">
                  <a:moveTo>
                    <a:pt x="4184" y="3418"/>
                  </a:moveTo>
                  <a:lnTo>
                    <a:pt x="495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676" y="3888"/>
                  </a:lnTo>
                  <a:lnTo>
                    <a:pt x="4184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479600" y="0"/>
              <a:ext cx="5835600" cy="5116680"/>
            </a:xfrm>
            <a:custGeom>
              <a:avLst/>
              <a:gdLst/>
              <a:ahLst/>
              <a:rect l="l" t="t" r="r" b="b"/>
              <a:pathLst>
                <a:path w="3676" h="3223">
                  <a:moveTo>
                    <a:pt x="400" y="0"/>
                  </a:moveTo>
                  <a:lnTo>
                    <a:pt x="3675" y="3036"/>
                  </a:lnTo>
                  <a:lnTo>
                    <a:pt x="3474" y="3222"/>
                  </a:lnTo>
                  <a:lnTo>
                    <a:pt x="0" y="0"/>
                  </a:lnTo>
                  <a:lnTo>
                    <a:pt x="40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3097" h="2556">
                  <a:moveTo>
                    <a:pt x="682" y="0"/>
                  </a:moveTo>
                  <a:lnTo>
                    <a:pt x="3096" y="2238"/>
                  </a:lnTo>
                  <a:lnTo>
                    <a:pt x="2754" y="2555"/>
                  </a:lnTo>
                  <a:lnTo>
                    <a:pt x="0" y="0"/>
                  </a:lnTo>
                  <a:lnTo>
                    <a:pt x="682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254560" y="0"/>
              <a:ext cx="3930840" cy="3367080"/>
            </a:xfrm>
            <a:custGeom>
              <a:avLst/>
              <a:gdLst/>
              <a:ahLst/>
              <a:rect l="l" t="t" r="r" b="b"/>
              <a:pathLst>
                <a:path w="2476" h="2121">
                  <a:moveTo>
                    <a:pt x="0" y="0"/>
                  </a:moveTo>
                  <a:lnTo>
                    <a:pt x="2286" y="2120"/>
                  </a:lnTo>
                  <a:lnTo>
                    <a:pt x="2475" y="1945"/>
                  </a:lnTo>
                  <a:lnTo>
                    <a:pt x="376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5441-9843-40BD-9A64-2A2FEBCA6E0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0F98-F3AC-4812-8FEA-10CBB2924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85400" cy="6173640"/>
            <a:chOff x="0" y="0"/>
            <a:chExt cx="918540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643800" cy="6173640"/>
            </a:xfrm>
            <a:custGeom>
              <a:avLst/>
              <a:gdLst/>
              <a:ahLst/>
              <a:rect l="l" t="t" r="r" b="b"/>
              <a:pathLst>
                <a:path w="4185" h="3889">
                  <a:moveTo>
                    <a:pt x="4184" y="3418"/>
                  </a:moveTo>
                  <a:lnTo>
                    <a:pt x="495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676" y="3888"/>
                  </a:lnTo>
                  <a:lnTo>
                    <a:pt x="4184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79600" y="0"/>
              <a:ext cx="5835600" cy="5116680"/>
            </a:xfrm>
            <a:custGeom>
              <a:avLst/>
              <a:gdLst/>
              <a:ahLst/>
              <a:rect l="l" t="t" r="r" b="b"/>
              <a:pathLst>
                <a:path w="3676" h="3223">
                  <a:moveTo>
                    <a:pt x="400" y="0"/>
                  </a:moveTo>
                  <a:lnTo>
                    <a:pt x="3675" y="3036"/>
                  </a:lnTo>
                  <a:lnTo>
                    <a:pt x="3474" y="3222"/>
                  </a:lnTo>
                  <a:lnTo>
                    <a:pt x="0" y="0"/>
                  </a:lnTo>
                  <a:lnTo>
                    <a:pt x="40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3097" h="2556">
                  <a:moveTo>
                    <a:pt x="682" y="0"/>
                  </a:moveTo>
                  <a:lnTo>
                    <a:pt x="3096" y="2238"/>
                  </a:lnTo>
                  <a:lnTo>
                    <a:pt x="2754" y="2555"/>
                  </a:lnTo>
                  <a:lnTo>
                    <a:pt x="0" y="0"/>
                  </a:lnTo>
                  <a:lnTo>
                    <a:pt x="682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54560" y="0"/>
              <a:ext cx="3930840" cy="3367080"/>
            </a:xfrm>
            <a:custGeom>
              <a:avLst/>
              <a:gdLst/>
              <a:ahLst/>
              <a:rect l="l" t="t" r="r" b="b"/>
              <a:pathLst>
                <a:path w="2476" h="2121">
                  <a:moveTo>
                    <a:pt x="0" y="0"/>
                  </a:moveTo>
                  <a:lnTo>
                    <a:pt x="2286" y="2120"/>
                  </a:lnTo>
                  <a:lnTo>
                    <a:pt x="2475" y="1945"/>
                  </a:lnTo>
                  <a:lnTo>
                    <a:pt x="376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142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5216-68CC-4099-A0F8-93DD135288C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C798-B6BD-42E5-B12A-56A6BBBB3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00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6012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Arial"/>
              </a:rPr>
              <a:t>АО ГЕЛИКОН ПРО</a:t>
            </a:r>
            <a:endParaRPr b="0" lang="en-US" sz="5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885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втоматизация кадровой служб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 учета кадр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  управлению персонал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42680" y="609120"/>
            <a:ext cx="86295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Рангулов Руслан Анварови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ущий специалист отдела внедрения информационных систем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.: (3422) 103-101, 103-178,103-7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: rra@gelicon.perm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gelicon.perm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9829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ФАКТОРЫ</a:t>
            </a:r>
            <a:br>
              <a:rPr sz="4000"/>
            </a:b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 определяющие необходимость развития системы управления персоналом 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острение конкур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иверсификация деятельности предпри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9906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Что дает автоматизация кадровой службы 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572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чет и управление трудовыми ресурс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зможность получения достоверных данных о структуре предприятия, расстановке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сонала, структуре затрат на оплату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еспечение мероприятий по улучшению качества персон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зможность внедрения новых кадровых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величение эффективности  труда сотрудников кадровых служб, плановых и расчетных подразде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Возможности </a:t>
            </a:r>
            <a:br>
              <a:rPr sz="4400"/>
            </a:b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КИС </a:t>
            </a: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Капитал </a:t>
            </a: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SE” </a:t>
            </a: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в части управления персоналом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едение организационной структуры пред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 Полный учет информации о сотрудниках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 Ведение кадровой документации и отчетности в соответствии с требованиями ТК РФ и Госкомст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чет отработанного времени и расходов по оплате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67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6100" y="10800"/>
                </a:moveTo>
                <a:lnTo>
                  <a:pt x="5595" y="17806"/>
                </a:lnTo>
                <a:lnTo>
                  <a:pt x="5595" y="3794"/>
                </a:lnTo>
                <a:close/>
              </a:path>
              <a:path fill="darken" w="25203" h="21600">
                <a:moveTo>
                  <a:pt x="17945" y="3794"/>
                </a:moveTo>
                <a:lnTo>
                  <a:pt x="17945" y="17806"/>
                </a:lnTo>
                <a:lnTo>
                  <a:pt x="19608" y="17806"/>
                </a:lnTo>
                <a:lnTo>
                  <a:pt x="19608" y="3794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ogo7" descr=""/>
          <p:cNvPicPr/>
          <p:nvPr/>
        </p:nvPicPr>
        <p:blipFill>
          <a:blip r:embed="rId3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ВЕДЕНИЕ ОРГАНИЗАЦИОННОЙ СТРУКТУРЫ ПРЕДПРИЯТИЯ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справочника штатного расписания в виде иерархического дер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ранение всей истории движений сотрудников и изменения штатного расписания, получение актуальной картины о кадровом составе и структуре предприятия на произвольный момент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сводной отчетности о штатной численности, занятости ставок, вакантных ставках, планируемом фонде заработной 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67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ПОЛНЫЙ УЧЕТ</a:t>
            </a: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ИНФОРМАЦИИ О СОТРУДНИКАХ ПРЕДПРИЯТИЯ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44792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0440" indent="-370440">
              <a:lnSpc>
                <a:spcPct val="7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рмирование личных сведений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7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ранение полной истории работы сотрудника на предприят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7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ет документов о неявках (отпуска, командировки, временная нетрудоспособность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7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ет переподготовок и аттестаций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7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зволяет получать информацию п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исочной численности на любую дату и среднесписочной численности за любой перио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рем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образованию и повышению квалификации персо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67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ВЕДЕНИЕ КАДРОВОЙ ДОКУМЕНТАЦИИ И</a:t>
            </a: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 ОТЧЕТНОСТИ В СООТВЕТСТВИИ </a:t>
            </a: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С ТРЕБОВАНИЯМИ ТК РФ И ГОСКОМСТАТА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держка унифицированных  форм Госкомстата по учету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держка классификаторов ОКАТО, О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зможность ведения справочника должностей в соответствии с ОКПД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67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УЧЕТ ОТРАБОТАННОГО ВРЕМЕНИ И </a:t>
            </a: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РАСХОДОВ ПО ОПЛАТЕ ТРУДА</a:t>
            </a:r>
            <a:br>
              <a:rPr sz="4000"/>
            </a:b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ельный уч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ибкие алгоритмы расчетов заработной п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т расходов на заработную плату по шифрам производственных зат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ДОСТОИНСТВА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иное информационное пространство всех модуле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рытая настройка расчетных алгоритм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граничение прав дост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сштабируемость п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ональному использ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тветствие форматов экспортируемых данных требованиям МНС и ПФ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ическая поддержка и сопровожд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7T18:13:00Z</dcterms:created>
  <dc:creator>Виктор Шишляев</dc:creator>
  <dc:description/>
  <dc:language>en-US</dc:language>
  <cp:lastModifiedBy>В.В. Шишляев</cp:lastModifiedBy>
  <cp:lastPrinted>2002-12-03T05:11:13Z</cp:lastPrinted>
  <dcterms:modified xsi:type="dcterms:W3CDTF">2002-12-10T14:52:06Z</dcterms:modified>
  <cp:revision>405</cp:revision>
  <dc:subject/>
  <dc:title>ОСНОВНЫЕ НАПРАВЛЕНИЯ ДЕЯТЕЛЬНОСТИ АО ГЕЛИКОН ПРО</dc:title>
</cp:coreProperties>
</file>